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5B0-2145-4084-9D29-D9EBB742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1AB-6FCB-4407-B903-A2D6A004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B6F-CE08-49AB-8D9D-09267044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4D8-39AA-4A0F-967F-0D05E3A2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4CB53-0572-4BA0-B98D-033789FD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9B5A3-03ED-4CAF-B427-010A8AA8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59B6C-7052-4711-83F9-07CE3275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F5698-BEFD-49AD-8D01-26AC2F6B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34BB8-BB68-4202-A91A-E479BD7D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3CB23-3B8C-4477-AB7F-02F915EA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AFF8D-FDA7-4B91-9C7A-BB1B65A2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5BB-0DD5-43C8-BA70-65BD4965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B753F-33B0-4A51-A7F9-5BD85862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6DCA1-61C6-4693-9EFF-8E3C89D0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0C190-8D83-4CA1-B312-FE7348DF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BFC3E-E6A7-466A-8277-2C07E27B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99507-F08B-4880-8F43-CFAD948F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084-948A-44C8-8234-EDBE7D63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117-EAA7-462E-823E-CC65330B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6D9-0D82-4C52-9434-305B6EA6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8B4-A8C6-4FE3-8438-913AAB84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2C4-27C8-4BB3-8ABE-2A18E70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15D-24CB-4BCC-98F5-4F8B28D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1DC-6F13-49A5-8D56-441EB39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EC4F-7E8A-42E6-BED2-0F7798CA4E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.10.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86F0-9172-4E6A-AEA3-DCFC5917B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8CAD-505C-4941-9521-6F184386CC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989F-84F3-42E2-B8CD-F09F2BEB3CB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.10.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25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sr-Latn-CS" sz="3200" spc="-1" strike="noStrike">
                <a:solidFill>
                  <a:srgbClr val="ffff00"/>
                </a:solidFill>
                <a:latin typeface="Arial Black"/>
              </a:rPr>
              <a:t>ZAKONSKA REGULATIVA U OBLASTI BOLNIČKIH INFEKCIJA</a:t>
            </a:r>
            <a:r>
              <a:rPr b="1" i="1" lang="sr-Latn-CS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Znak Instituta Batut RGB H25mm"/>
          <p:cNvPicPr/>
          <p:nvPr/>
        </p:nvPicPr>
        <p:blipFill>
          <a:blip r:embed="rId2"/>
          <a:stretch/>
        </p:blipFill>
        <p:spPr>
          <a:xfrm>
            <a:off x="468360" y="537372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8"/>
          <p:cNvSpPr/>
          <p:nvPr/>
        </p:nvSpPr>
        <p:spPr>
          <a:xfrm>
            <a:off x="1692360" y="4437000"/>
            <a:ext cx="7200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of dr Branislav Tiodorovi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B43-1028-4A8C-8CD6-55CCC259B9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ahoma"/>
              </a:rPr>
              <a:t>ZAKON O ZAŠTITI STANOVNIŠTVA OD ZARAZNIH BOLESTI </a:t>
            </a:r>
            <a:br>
              <a:rPr sz="3600"/>
            </a:br>
            <a:r>
              <a:rPr b="0" i="1" lang="sr-Latn-CS" sz="36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i="1" lang="sr-Latn-CS" sz="2800" spc="-1" strike="noStrike">
                <a:solidFill>
                  <a:srgbClr val="ffff00"/>
                </a:solidFill>
                <a:latin typeface="Tahoma"/>
              </a:rPr>
              <a:t>Sl.gl.RS 125/04</a:t>
            </a:r>
            <a:r>
              <a:rPr b="0" i="1" lang="sr-Latn-CS" sz="36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provođenje stručnih, organizacionih i drugih mera radi sprečavanja pojave, ranog otkrivanja i suzbijanja bolničkih infe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brazovanje komisije za zaštitu od bolničkih infe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4FF-E207-4D48-85F8-0B026D2583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r-Latn-CS" sz="3600" spc="-1" strike="noStrike">
                <a:solidFill>
                  <a:srgbClr val="ffff00"/>
                </a:solidFill>
                <a:latin typeface="Tahoma"/>
              </a:rPr>
              <a:t>UREDBA O ZDRAVSTVENOJ ZAŠTITI STANOVNIŠTVA OD ZARAZNIH BOLESTI </a:t>
            </a:r>
            <a:br>
              <a:rPr sz="3600"/>
            </a:br>
            <a:r>
              <a:rPr b="0" i="1" lang="sr-Latn-CS" sz="2400" spc="-1" strike="noStrike">
                <a:solidFill>
                  <a:srgbClr val="ffff00"/>
                </a:solidFill>
                <a:latin typeface="Tahoma"/>
              </a:rPr>
              <a:t>(Sl.gl. RS 29/0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ere na nivou bol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komisija najmanje 3 sastanka/g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gram, plan rada i izveštaj zavodu/institu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estra za sprovođenje programa z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čavanje 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uzbijanje B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im za B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provođenje opšt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mera za sprečavanje i suzbijanje B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AA60-AFDE-4A4A-96C0-8B18DBD037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771-ED68-43DA-A21A-FE2C43F3EA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</a:rPr>
              <a:t>UREDBA O ZDRAVSTVENOJ ZAŠTITI STANOVNIŠTVA OD ZARAZNIH BOLESTI </a:t>
            </a:r>
            <a:br>
              <a:rPr sz="3200"/>
            </a:br>
            <a:r>
              <a:rPr b="0" i="1" lang="sr-Latn-CS" sz="2400" spc="-1" strike="noStrike">
                <a:solidFill>
                  <a:srgbClr val="ffff00"/>
                </a:solidFill>
                <a:latin typeface="Tahoma"/>
              </a:rPr>
              <a:t>(Sl.gl. RS 29/0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ere na međuokružnom i okružnom niv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rganizaciona jedinica za zaštitu od BI koja vrši epidemiološki nadz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za celu bolnic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tudija prevalencije na 3 g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anitarno-higijenski nadz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tudija incidencije na odeljenjima sa povećanim rizik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rikupljanje podataka o bakterijama rezistentni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a antibiotik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reno otkrivanje i suzbijanje epidemi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F27F-0CCE-4325-975F-A96B451ABA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0C1-C39E-4A6D-B382-0F82E70E96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r-Latn-CS" sz="3200" spc="-1" strike="noStrike">
                <a:solidFill>
                  <a:srgbClr val="ffff00"/>
                </a:solidFill>
                <a:latin typeface="Tahoma"/>
              </a:rPr>
              <a:t>UREDBA O ZDRAVSTVENOJ ZAŠTITI STANOVNIŠTVA OD ZARAZNIH BOLESTI </a:t>
            </a:r>
            <a:br>
              <a:rPr sz="3200"/>
            </a:br>
            <a:r>
              <a:rPr b="0" i="1" lang="sr-Latn-CS" sz="2400" spc="-1" strike="noStrike">
                <a:solidFill>
                  <a:srgbClr val="ffff00"/>
                </a:solidFill>
                <a:latin typeface="Tahoma"/>
              </a:rPr>
              <a:t>(Sl.gl. RS 29/0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ere na centralnom niv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edlog programa i metodologije za sprčavanje i suzbijanje B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publička komisija za BI-mišljenje na predlog programa i mera za suzbijanje B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70BF-7874-403B-89FB-311CDBBF28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E87-5639-48DF-AAE4-6BB667690F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15640"/>
            <a:ext cx="8218440" cy="22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ODLUKA O MERAMA ZA ZAŠTITU OD ŠIRENJA ZARAZNIH BOLESTI UNUTAR ZDRAVSTVENIH USTANOVA, DRUGIH PRAVNIH LICA I PREDUZETNIKA KOJI VRŠE ZDRAVSTVENU DELATNOST </a:t>
            </a:r>
            <a:br>
              <a:rPr sz="2400"/>
            </a:br>
            <a:r>
              <a:rPr b="0" i="1" lang="sr-Latn-CS" sz="2400" spc="-1" strike="noStrike">
                <a:solidFill>
                  <a:srgbClr val="ffff00"/>
                </a:solidFill>
                <a:latin typeface="Tahoma"/>
              </a:rPr>
              <a:t>(Sl.list SRJ, br.27/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pšte m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sebne m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mere po kliničkim i epidemiološkim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dikacij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omisija za zaštitu od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kućnih infe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ogram, plan i stručnometodološko uputst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brazac za epidemiološki nadzor nad B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5A3D-1840-4D81-90D3-0C32F4238B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57C-F5EA-4327-91E1-1F802F1B5F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17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Tahoma"/>
              </a:rPr>
              <a:t>Pravilnik o prijavljivanju zaraznih bolesti i drugih slučajeva utvrđenih zakonom o zaštiti stanovništva od zaraznih bolesti</a:t>
            </a:r>
            <a:br>
              <a:rPr sz="3200"/>
            </a:br>
            <a:r>
              <a:rPr b="1" i="1" lang="sr-Latn-CS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0" i="1" lang="sr-Latn-CS" sz="2400" spc="-1" strike="noStrike">
                <a:solidFill>
                  <a:srgbClr val="ffff00"/>
                </a:solidFill>
                <a:latin typeface="Tahoma"/>
              </a:rPr>
              <a:t>Sl.gl.RS br. 98/0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brazac prijave B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ijavu (obrazac br.7) popunjava doktor medic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ijava se podnosi komisiji za zaštitu od B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omisija prijavu dostavlja regionalno naležnom zavodu/institutu u roku od 3 d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453-CCAC-4DC5-8562-2AD15B4A6F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ahoma"/>
              </a:rPr>
              <a:t>Pravilnik o pokazateljima kvaliteta zdravstvene zaštit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Zakon o zdravstvenoj zaštiti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(Sl.gl.RS 107/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kvalitet zdravstvene zaštite, provera kvaliteta stručnog rada i akreditacija – čl. 203 – 2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Pravilnik o pokazateljima kvaliteta zdravstvene zaštit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Sl.gl. RS, 57/07; IZMEN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ezbednost pacijen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 nivou zavoda/instit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 nivou boln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 nivou instituta za javno zdravlje Srbije??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1EF-C0F2-4398-A1F5-20D673E62F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ahoma"/>
              </a:rPr>
              <a:t>PRAVILNIK </a:t>
            </a:r>
            <a:br>
              <a:rPr sz="4000"/>
            </a:b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KOJI ĆE REGULISATI OBLAST BOLNIČKIH INFE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ahoma"/>
              </a:rPr>
              <a:t>Zakon o zaštiti stanovništva od zarazni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</a:rPr>
              <a:t>bolesti/ NAC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Tahoma"/>
              </a:rPr>
              <a:t>13 podzakonskih akata (Pravilnici)/NAC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91E-CE9F-4A05-AD05-1A9962E8EC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1:29:06Z</dcterms:created>
  <dc:creator>obrenovic_jelena</dc:creator>
  <dc:description/>
  <dc:language>en-US</dc:language>
  <cp:lastModifiedBy>Morbilli</cp:lastModifiedBy>
  <dcterms:modified xsi:type="dcterms:W3CDTF">2011-03-17T07:12:14Z</dcterms:modified>
  <cp:revision>72</cp:revision>
  <dc:subject/>
  <dc:title>Slide 1</dc:title>
</cp:coreProperties>
</file>